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20C1-76C9-47D4-8A1D-93F3FC1E2B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23CF-4AD8-43B4-A1B6-D3DBCD7813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BC8B-37B8-466F-8F64-FADB342A6A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B2E2-1CE6-4CA3-B653-4EA3D1FF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293B-DEC1-405F-BB3F-97BF851E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DA68-D972-4721-984D-99F31D1B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6339-D6E5-4B33-B326-6D1BE76F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D1A6-BA53-40FD-ACC2-CA316A1A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1F96-E283-49AC-A530-FFBCB039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FE14-3666-44AA-99CF-E7867A6F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0431-99AB-4AD5-8002-3CFC3267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9C71-B209-41E7-A5DA-B5BBA7AC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C85C-8349-4B21-90AD-AAD4A21F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BEEA-856E-4AD1-993A-55C510E7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7063-9A09-42E6-8271-9F36E279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2698-0C7B-4587-8338-4B2EF722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C90A-BF1B-4984-A406-99D58DFF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2422-6BE4-436A-822F-2DE8C18A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E2F8-10BB-457B-A0A1-E163DE94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6513-C536-4F0C-BA5F-20963ADD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068A7-43FC-4C94-A672-6B1F63C4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48885-0041-479D-8A88-8AC06336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1E0EA-285D-4AC4-A8C8-29B9C080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42B8B-69C8-45C5-8653-E5C1CDF7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16875-4CD3-4FD0-9C97-7FF84638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7963-7F03-4905-8B94-F510F99B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19678-CD61-4161-A45A-7B309A29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C9D2E-4E7A-4103-AF20-90E12C0B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E4550-D37A-4DAF-849E-A3DD7990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563B3-3DF6-40EA-B05B-2236996B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81B45-503B-480B-9186-94C4E632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16099-0F2F-4270-91F4-28CDE1CA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7C599-4E6F-4FE6-8BF4-9262B21D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581B3-0B79-43C1-A289-84696DC0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3DA69-07E9-465E-8DBB-F3D8C2A8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89237-668A-42C4-93D1-0D89A6A4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8278-8E94-4D9F-8F54-CCBB33DE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919BB-4832-49D2-A019-589FABCE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B5091-1D2E-47D5-862D-CBFB021E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A6245-3C20-44E0-8282-925478F4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C3152-E155-4D27-A549-0C0EA92E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C2950-FF92-4802-BCDA-60016FF3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6B6A2-DB49-4307-ACE5-7C3F506A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2B42F-CFCF-49C8-9A88-50950169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7F336-C59E-495D-ABEE-74900FA4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915ED-FFEF-4266-A29F-822A8BF0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34C03-1EDE-40C4-A69B-670B41E7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B831-9E06-4D00-8CC1-74957BB7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BEA4C-4616-4393-8FD1-EB5D1166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36928-5567-4FA6-80F4-20653E0F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1C57D-A52A-44EF-AB42-131CE649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0FD5B-8173-44B3-A9DC-659DF5C7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0775D-D8DC-4222-AC51-D2836171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6C021-8783-4229-A54E-C77C6BB4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DB5AC-8A64-4694-A923-EB787A95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D318E-58E2-4E28-9A01-AD405338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95700-1E01-4AE5-A862-7DC4E205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C8EB5-4813-4518-96DF-13B68B30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DC84-4948-44BA-A9CE-18D1CC07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69D4D-3A26-444F-B88E-F1F76EA4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708AC-222A-442C-B691-5064F99D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0E2CF-034E-4AD2-8CE2-39ACDE73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D7862-B554-4935-A6C9-9E7C9A68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08604-6884-4BAC-9E8E-FDA1C5F5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FB1CB-B0A1-4487-B719-86C4A6E3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C3925-042E-4571-B7C0-0D68FD72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15969-D627-40E0-A5EE-5D391DB7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62B95-E6D7-4262-B063-8674235F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6987E-5D3C-4FE3-95A7-BD3E085B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4E72-439F-405D-B77D-6D964012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FF83A-0497-48E4-A284-5F07EF9C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E3158-36C3-475F-9477-6837843A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C014E-E03F-435E-9454-A080F759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CCFEA-5B71-4D93-A492-DC2D826C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45388-5D55-42EA-B4F2-D61C4DFD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6E83D-F2E9-4AAC-A849-D59C6DC0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F4845-DEDF-4BF2-9872-BC594473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C53E7-54FA-4006-843B-1D28E963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5C8D5-2130-4247-9F11-795914C8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AB96D-CB97-4E10-BA6B-DB5FFC92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1787-7FBA-4239-B2F1-879C9970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CF738-DB86-4569-8CFA-8CB55066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9787F-9B52-43C7-A70E-35F88AE6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9224B-A18A-4836-9538-90573E6B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3D07D-AA85-4D6E-A53B-52EE5542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955B7-ABC2-4316-9CFD-6AB2AA55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2EDB2-A1E0-4154-982F-69C47612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C141C-C6EB-49F5-9ED3-FC367716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B6225-8417-4D7F-8533-BEE9B484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71067-AC02-4A46-B685-C9BB03A6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C3754-56E8-4930-92D6-7C4BB5C6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D1F8-0BD2-4303-AC7D-F4367D4B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9D3A8-5055-43A7-9ED2-90F83C5E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874D0-D0FB-44CD-99B2-DD23CB48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CE4C4-CEDF-47D8-8566-BF0D8680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A112C-846A-40E1-B6B5-2827CC47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7163B-4A99-449E-963B-EC2CAFB5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DC473-43B4-4026-AF57-1E92DFC7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F701B-A75B-4694-A316-F079BEBC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454C-1953-40E1-A260-C6A90C704CF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858F-C53B-4ECA-881C-86F827E43EF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A708-226E-40D0-A12E-7E5D89D2002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AB57-C4C2-4868-9501-F42A48F9D4B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5A62-72EA-455A-B3FC-FE55C2669AC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4C04-5B39-4259-9454-A629173B087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B2B7-E6A3-4A53-94F4-5EC363B8F7B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175C-98BE-4B9D-B398-444BD9F002D3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Прямоугольник 4" descr=""/>
          <p:cNvPicPr/>
          <p:nvPr/>
        </p:nvPicPr>
        <p:blipFill>
          <a:blip r:embed="rId1"/>
          <a:stretch/>
        </p:blipFill>
        <p:spPr>
          <a:xfrm>
            <a:off x="-115920" y="517680"/>
            <a:ext cx="9399600" cy="110304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7"/>
          <p:cNvSpPr/>
          <p:nvPr/>
        </p:nvSpPr>
        <p:spPr>
          <a:xfrm>
            <a:off x="684360" y="2133720"/>
            <a:ext cx="7920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Цель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«Открыть» множество противоположных чисел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и определить их место на координатно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прямо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137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b4a76"/>
                </a:solidFill>
                <a:latin typeface="Lucida Sans Unicode"/>
              </a:rPr>
              <a:t>Два числа ,  отличающиеся друг от друга только знаками ,называют </a:t>
            </a:r>
            <a:r>
              <a:rPr b="1" lang="ru-RU" sz="3000" spc="-1" strike="noStrike" u="sng">
                <a:solidFill>
                  <a:srgbClr val="ff0000"/>
                </a:solidFill>
                <a:uFillTx/>
                <a:latin typeface="Lucida Sans Unicode"/>
              </a:rPr>
              <a:t>противоположными числами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380" name="Прямая со стрелкой 26"/>
          <p:cNvCxnSpPr/>
          <p:nvPr/>
        </p:nvCxnSpPr>
        <p:spPr>
          <a:xfrm>
            <a:off x="539280" y="5373720"/>
            <a:ext cx="7992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1" name="TextBox 27"/>
          <p:cNvSpPr/>
          <p:nvPr/>
        </p:nvSpPr>
        <p:spPr>
          <a:xfrm>
            <a:off x="8244000" y="487044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ая соединительная линия 28"/>
          <p:cNvSpPr/>
          <p:nvPr/>
        </p:nvSpPr>
        <p:spPr>
          <a:xfrm>
            <a:off x="8099280" y="53020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ая соединительная линия 29"/>
          <p:cNvSpPr/>
          <p:nvPr/>
        </p:nvSpPr>
        <p:spPr>
          <a:xfrm>
            <a:off x="7667640" y="53020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30"/>
          <p:cNvSpPr/>
          <p:nvPr/>
        </p:nvSpPr>
        <p:spPr>
          <a:xfrm>
            <a:off x="7236000" y="53020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ая соединительная линия 31"/>
          <p:cNvSpPr/>
          <p:nvPr/>
        </p:nvSpPr>
        <p:spPr>
          <a:xfrm>
            <a:off x="6804000" y="53020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ая соединительная линия 32"/>
          <p:cNvSpPr/>
          <p:nvPr/>
        </p:nvSpPr>
        <p:spPr>
          <a:xfrm>
            <a:off x="6372360" y="53020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33"/>
          <p:cNvSpPr/>
          <p:nvPr/>
        </p:nvSpPr>
        <p:spPr>
          <a:xfrm>
            <a:off x="5940360" y="53020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34"/>
          <p:cNvSpPr/>
          <p:nvPr/>
        </p:nvSpPr>
        <p:spPr>
          <a:xfrm>
            <a:off x="5506920" y="53020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35"/>
          <p:cNvSpPr/>
          <p:nvPr/>
        </p:nvSpPr>
        <p:spPr>
          <a:xfrm>
            <a:off x="5075280" y="53020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36"/>
          <p:cNvSpPr/>
          <p:nvPr/>
        </p:nvSpPr>
        <p:spPr>
          <a:xfrm>
            <a:off x="4643280" y="53020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ая соединительная линия 37"/>
          <p:cNvSpPr/>
          <p:nvPr/>
        </p:nvSpPr>
        <p:spPr>
          <a:xfrm>
            <a:off x="4211640" y="522936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ая соединительная линия 38"/>
          <p:cNvSpPr/>
          <p:nvPr/>
        </p:nvSpPr>
        <p:spPr>
          <a:xfrm>
            <a:off x="3780000" y="53020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39"/>
          <p:cNvSpPr/>
          <p:nvPr/>
        </p:nvSpPr>
        <p:spPr>
          <a:xfrm>
            <a:off x="3348000" y="53020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40"/>
          <p:cNvSpPr/>
          <p:nvPr/>
        </p:nvSpPr>
        <p:spPr>
          <a:xfrm>
            <a:off x="2914560" y="53020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ая соединительная линия 41"/>
          <p:cNvSpPr/>
          <p:nvPr/>
        </p:nvSpPr>
        <p:spPr>
          <a:xfrm>
            <a:off x="2482920" y="53020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ая соединительная линия 42"/>
          <p:cNvSpPr/>
          <p:nvPr/>
        </p:nvSpPr>
        <p:spPr>
          <a:xfrm>
            <a:off x="2050920" y="53020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43"/>
          <p:cNvSpPr/>
          <p:nvPr/>
        </p:nvSpPr>
        <p:spPr>
          <a:xfrm>
            <a:off x="1619280" y="53020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44"/>
          <p:cNvSpPr/>
          <p:nvPr/>
        </p:nvSpPr>
        <p:spPr>
          <a:xfrm>
            <a:off x="1187280" y="53020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Рисунок 49" descr="mult-pict_narod_ru28.gif"/>
          <p:cNvPicPr/>
          <p:nvPr/>
        </p:nvPicPr>
        <p:blipFill>
          <a:blip r:embed="rId1"/>
          <a:stretch/>
        </p:blipFill>
        <p:spPr>
          <a:xfrm>
            <a:off x="1476360" y="1916280"/>
            <a:ext cx="2716200" cy="333360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50" descr="mult-pict_narod_ru28.gif"/>
          <p:cNvPicPr/>
          <p:nvPr/>
        </p:nvPicPr>
        <p:blipFill>
          <a:blip r:embed="rId2"/>
          <a:stretch/>
        </p:blipFill>
        <p:spPr>
          <a:xfrm>
            <a:off x="4211640" y="1916280"/>
            <a:ext cx="2716200" cy="3333600"/>
          </a:xfrm>
          <a:prstGeom prst="rect">
            <a:avLst/>
          </a:prstGeom>
          <a:ln w="0">
            <a:noFill/>
          </a:ln>
        </p:spPr>
      </p:pic>
      <p:sp>
        <p:nvSpPr>
          <p:cNvPr id="401" name="TextBox 51"/>
          <p:cNvSpPr/>
          <p:nvPr/>
        </p:nvSpPr>
        <p:spPr>
          <a:xfrm>
            <a:off x="4010760" y="5661000"/>
            <a:ext cx="3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Lucida Sans Unicode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52"/>
          <p:cNvSpPr/>
          <p:nvPr/>
        </p:nvSpPr>
        <p:spPr>
          <a:xfrm>
            <a:off x="4874400" y="5661000"/>
            <a:ext cx="3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Lucida Sans Unicode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3"/>
          <p:cNvSpPr/>
          <p:nvPr/>
        </p:nvSpPr>
        <p:spPr>
          <a:xfrm>
            <a:off x="6171480" y="5661000"/>
            <a:ext cx="3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Lucida Sans Unicode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54"/>
          <p:cNvSpPr/>
          <p:nvPr/>
        </p:nvSpPr>
        <p:spPr>
          <a:xfrm>
            <a:off x="1756800" y="5661000"/>
            <a:ext cx="52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Lucida Sans Unicode"/>
              </a:rPr>
              <a:t>-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55"/>
          <p:cNvSpPr/>
          <p:nvPr/>
        </p:nvSpPr>
        <p:spPr>
          <a:xfrm>
            <a:off x="3052080" y="5661000"/>
            <a:ext cx="52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Lucida Sans Unicode"/>
              </a:rPr>
              <a:t>-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6840" y="1480680"/>
            <a:ext cx="843588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70c0"/>
                </a:solidFill>
                <a:latin typeface="Lucida Sans Unicode"/>
              </a:rPr>
              <a:t>Противоположными числами будут </a:t>
            </a:r>
            <a:r>
              <a:rPr b="1" lang="ru-RU" sz="3500" spc="-1" strike="noStrike">
                <a:solidFill>
                  <a:srgbClr val="ff0000"/>
                </a:solidFill>
                <a:latin typeface="Lucida Sans Unicode"/>
              </a:rPr>
              <a:t>8</a:t>
            </a:r>
            <a:r>
              <a:rPr b="1" lang="ru-RU" sz="3500" spc="-1" strike="noStrike">
                <a:solidFill>
                  <a:srgbClr val="0070c0"/>
                </a:solidFill>
                <a:latin typeface="Lucida Sans Unicode"/>
              </a:rPr>
              <a:t> и -8, так как число </a:t>
            </a:r>
            <a:r>
              <a:rPr b="1" lang="ru-RU" sz="3500" spc="-1" strike="noStrike">
                <a:solidFill>
                  <a:srgbClr val="ff0000"/>
                </a:solidFill>
                <a:latin typeface="Lucida Sans Unicode"/>
              </a:rPr>
              <a:t>8</a:t>
            </a:r>
            <a:r>
              <a:rPr b="1" lang="ru-RU" sz="3500" spc="-1" strike="noStrike">
                <a:solidFill>
                  <a:srgbClr val="0070c0"/>
                </a:solidFill>
                <a:latin typeface="Lucida Sans Unicode"/>
              </a:rPr>
              <a:t> = </a:t>
            </a:r>
            <a:r>
              <a:rPr b="1" lang="ru-RU" sz="3500" spc="-1" strike="noStrike">
                <a:solidFill>
                  <a:srgbClr val="ff0000"/>
                </a:solidFill>
                <a:latin typeface="Lucida Sans Unicode"/>
              </a:rPr>
              <a:t>+8</a:t>
            </a:r>
            <a:r>
              <a:rPr b="1" lang="ru-RU" sz="3500" spc="-1" strike="noStrike">
                <a:solidFill>
                  <a:srgbClr val="0070c0"/>
                </a:solidFill>
                <a:latin typeface="Lucida Sans Unicode"/>
              </a:rPr>
              <a:t>, значит, число </a:t>
            </a:r>
            <a:r>
              <a:rPr b="1" lang="ru-RU" sz="3500" spc="-1" strike="noStrike">
                <a:solidFill>
                  <a:srgbClr val="ff0000"/>
                </a:solidFill>
                <a:latin typeface="Lucida Sans Unicode"/>
              </a:rPr>
              <a:t>8</a:t>
            </a:r>
            <a:r>
              <a:rPr b="1" lang="ru-RU" sz="3500" spc="-1" strike="noStrike">
                <a:solidFill>
                  <a:srgbClr val="0070c0"/>
                </a:solidFill>
                <a:latin typeface="Lucida Sans Unicode"/>
              </a:rPr>
              <a:t> и -8 </a:t>
            </a:r>
            <a:r>
              <a:rPr b="1" lang="ru-RU" sz="3500" spc="-1" strike="noStrike" u="sng">
                <a:solidFill>
                  <a:srgbClr val="0070c0"/>
                </a:solidFill>
                <a:uFillTx/>
                <a:latin typeface="Lucida Sans Unicode"/>
              </a:rPr>
              <a:t>отличаются только знаками.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164360" y="5877000"/>
          <a:ext cx="525600" cy="850680"/>
        </p:xfrm>
        <a:graphic>
          <a:graphicData uri="http://schemas.openxmlformats.org/drawingml/2006/table">
            <a:tbl>
              <a:tblPr/>
              <a:tblGrid>
                <a:gridCol w="525600"/>
              </a:tblGrid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09" name="Group 67"/>
          <p:cNvGrpSpPr/>
          <p:nvPr/>
        </p:nvGrpSpPr>
        <p:grpSpPr>
          <a:xfrm>
            <a:off x="1332000" y="3933720"/>
            <a:ext cx="6408360" cy="1870920"/>
            <a:chOff x="1332000" y="3933720"/>
            <a:chExt cx="6408360" cy="1870920"/>
          </a:xfrm>
        </p:grpSpPr>
        <p:sp>
          <p:nvSpPr>
            <p:cNvPr id="410" name="Line 4"/>
            <p:cNvSpPr/>
            <p:nvPr/>
          </p:nvSpPr>
          <p:spPr>
            <a:xfrm>
              <a:off x="1332000" y="5467320"/>
              <a:ext cx="640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5"/>
            <p:cNvSpPr/>
            <p:nvPr/>
          </p:nvSpPr>
          <p:spPr>
            <a:xfrm>
              <a:off x="7425360" y="5126400"/>
              <a:ext cx="0" cy="67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6"/>
            <p:cNvSpPr/>
            <p:nvPr/>
          </p:nvSpPr>
          <p:spPr>
            <a:xfrm>
              <a:off x="4484160" y="5126400"/>
              <a:ext cx="0" cy="67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7"/>
            <p:cNvSpPr/>
            <p:nvPr/>
          </p:nvSpPr>
          <p:spPr>
            <a:xfrm>
              <a:off x="1649160" y="5126400"/>
              <a:ext cx="0" cy="67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65"/>
            <p:cNvSpPr/>
            <p:nvPr/>
          </p:nvSpPr>
          <p:spPr>
            <a:xfrm>
              <a:off x="2172600" y="3933720"/>
              <a:ext cx="1424160" cy="1147680"/>
            </a:xfrm>
            <a:prstGeom prst="leftArrow">
              <a:avLst>
                <a:gd name="adj1" fmla="val 50000"/>
                <a:gd name="adj2" fmla="val 31023"/>
              </a:avLst>
            </a:prstGeom>
            <a:solidFill>
              <a:srgbClr val="c5f9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66"/>
            <p:cNvSpPr/>
            <p:nvPr/>
          </p:nvSpPr>
          <p:spPr>
            <a:xfrm>
              <a:off x="5113800" y="3933720"/>
              <a:ext cx="1575000" cy="1192680"/>
            </a:xfrm>
            <a:prstGeom prst="rightArrow">
              <a:avLst>
                <a:gd name="adj1" fmla="val 50000"/>
                <a:gd name="adj2" fmla="val 33014"/>
              </a:avLst>
            </a:prstGeom>
            <a:solidFill>
              <a:srgbClr val="c5f9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16" name=""/>
          <p:cNvGraphicFramePr/>
          <p:nvPr/>
        </p:nvGraphicFramePr>
        <p:xfrm>
          <a:off x="1258920" y="5805360"/>
          <a:ext cx="865080" cy="851040"/>
        </p:xfrm>
        <a:graphic>
          <a:graphicData uri="http://schemas.openxmlformats.org/drawingml/2006/table">
            <a:tbl>
              <a:tblPr/>
              <a:tblGrid>
                <a:gridCol w="865080"/>
              </a:tblGrid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2da2bf"/>
                          </a:solidFill>
                          <a:latin typeface="Tahoma"/>
                        </a:rPr>
                        <a:t>-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4211640" y="5805360"/>
          <a:ext cx="525600" cy="851040"/>
        </p:xfrm>
        <a:graphic>
          <a:graphicData uri="http://schemas.openxmlformats.org/drawingml/2006/table">
            <a:tbl>
              <a:tblPr/>
              <a:tblGrid>
                <a:gridCol w="525600"/>
              </a:tblGrid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b050"/>
                          </a:solidFill>
                          <a:latin typeface="Tahoma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6407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Lucida Sans Unicode"/>
              </a:rPr>
              <a:t>Натуральные числа, противоположные им числа и нуль называют </a:t>
            </a:r>
            <a:r>
              <a:rPr b="1" lang="ru-RU" sz="3500" spc="-1" strike="noStrike" u="sng">
                <a:solidFill>
                  <a:srgbClr val="ff0000"/>
                </a:solidFill>
                <a:uFillTx/>
                <a:latin typeface="Lucida Sans Unicode"/>
              </a:rPr>
              <a:t>целыми  числами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1095480" y="3803760"/>
            <a:ext cx="70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0" y="4292640"/>
            <a:ext cx="89647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Sans Unicode"/>
              </a:rPr>
              <a:t>. . .  , -5 ; - 4; -3; -2; -1 ; 0 ;  1 ; 2 ; 3 ; 4 ; 5 , 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Прямоугольник 6" descr=""/>
          <p:cNvPicPr/>
          <p:nvPr/>
        </p:nvPicPr>
        <p:blipFill>
          <a:blip r:embed="rId1"/>
          <a:stretch/>
        </p:blipFill>
        <p:spPr>
          <a:xfrm>
            <a:off x="1835280" y="133200"/>
            <a:ext cx="54925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4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3517920" y="109440"/>
            <a:ext cx="2919240" cy="1158840"/>
          </a:xfrm>
          <a:prstGeom prst="rect">
            <a:avLst/>
          </a:prstGeom>
          <a:ln w="0">
            <a:noFill/>
          </a:ln>
        </p:spPr>
      </p:pic>
      <p:sp>
        <p:nvSpPr>
          <p:cNvPr id="423" name="Прямоугольник 5"/>
          <p:cNvSpPr/>
          <p:nvPr/>
        </p:nvSpPr>
        <p:spPr>
          <a:xfrm>
            <a:off x="900000" y="1125360"/>
            <a:ext cx="7632720" cy="5399280"/>
          </a:xfrm>
          <a:prstGeom prst="rect">
            <a:avLst/>
          </a:prstGeom>
          <a:solidFill>
            <a:srgbClr val="ccec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6"/>
          <p:cNvSpPr/>
          <p:nvPr/>
        </p:nvSpPr>
        <p:spPr>
          <a:xfrm flipV="1">
            <a:off x="1692360" y="3284640"/>
            <a:ext cx="358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ая соединительная линия 7"/>
          <p:cNvSpPr/>
          <p:nvPr/>
        </p:nvSpPr>
        <p:spPr>
          <a:xfrm flipV="1">
            <a:off x="1692360" y="2924280"/>
            <a:ext cx="358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ая соединительная линия 8"/>
          <p:cNvSpPr/>
          <p:nvPr/>
        </p:nvSpPr>
        <p:spPr>
          <a:xfrm>
            <a:off x="1692360" y="436572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ая соединительная линия 9"/>
          <p:cNvSpPr/>
          <p:nvPr/>
        </p:nvSpPr>
        <p:spPr>
          <a:xfrm>
            <a:off x="1692360" y="400536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ая соединительная линия 10"/>
          <p:cNvSpPr/>
          <p:nvPr/>
        </p:nvSpPr>
        <p:spPr>
          <a:xfrm>
            <a:off x="1692360" y="364500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ая соединительная линия 11"/>
          <p:cNvSpPr/>
          <p:nvPr/>
        </p:nvSpPr>
        <p:spPr>
          <a:xfrm>
            <a:off x="1692360" y="544500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ая соединительная линия 12"/>
          <p:cNvSpPr/>
          <p:nvPr/>
        </p:nvSpPr>
        <p:spPr>
          <a:xfrm>
            <a:off x="1692360" y="508464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ая соединительная линия 13"/>
          <p:cNvSpPr/>
          <p:nvPr/>
        </p:nvSpPr>
        <p:spPr>
          <a:xfrm flipV="1">
            <a:off x="1692360" y="4723920"/>
            <a:ext cx="358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ая соединительная линия 15"/>
          <p:cNvSpPr/>
          <p:nvPr/>
        </p:nvSpPr>
        <p:spPr>
          <a:xfrm>
            <a:off x="1692360" y="616572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ая соединительная линия 16"/>
          <p:cNvSpPr/>
          <p:nvPr/>
        </p:nvSpPr>
        <p:spPr>
          <a:xfrm>
            <a:off x="1692360" y="580536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7"/>
          <p:cNvSpPr/>
          <p:nvPr/>
        </p:nvSpPr>
        <p:spPr>
          <a:xfrm>
            <a:off x="1335240" y="47973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21"/>
          <p:cNvSpPr/>
          <p:nvPr/>
        </p:nvSpPr>
        <p:spPr>
          <a:xfrm>
            <a:off x="1201320" y="4076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385a"/>
                </a:solidFill>
                <a:latin typeface="Lucida Sans Unicod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23"/>
          <p:cNvSpPr/>
          <p:nvPr/>
        </p:nvSpPr>
        <p:spPr>
          <a:xfrm>
            <a:off x="1201320" y="4437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385a"/>
                </a:solidFill>
                <a:latin typeface="Lucida Sans Unicod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25"/>
          <p:cNvSpPr/>
          <p:nvPr/>
        </p:nvSpPr>
        <p:spPr>
          <a:xfrm>
            <a:off x="1096200" y="52293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85a"/>
                </a:solidFill>
                <a:latin typeface="Lucida Sans Unicod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27"/>
          <p:cNvSpPr/>
          <p:nvPr/>
        </p:nvSpPr>
        <p:spPr>
          <a:xfrm>
            <a:off x="1096200" y="5518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85a"/>
                </a:solidFill>
                <a:latin typeface="Lucida Sans Unicode"/>
              </a:rPr>
              <a:t>-</a:t>
            </a:r>
            <a:r>
              <a:rPr b="1" lang="en-US" sz="2400" spc="-1" strike="noStrike">
                <a:solidFill>
                  <a:srgbClr val="35385a"/>
                </a:solidFill>
                <a:latin typeface="Lucida Sans Unicod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29"/>
          <p:cNvSpPr/>
          <p:nvPr/>
        </p:nvSpPr>
        <p:spPr>
          <a:xfrm>
            <a:off x="1201320" y="3718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385a"/>
                </a:solidFill>
                <a:latin typeface="Lucida Sans Unicod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31"/>
          <p:cNvSpPr/>
          <p:nvPr/>
        </p:nvSpPr>
        <p:spPr>
          <a:xfrm>
            <a:off x="1096200" y="5877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85a"/>
                </a:solidFill>
                <a:latin typeface="Lucida Sans Unicode"/>
              </a:rPr>
              <a:t>-</a:t>
            </a:r>
            <a:r>
              <a:rPr b="1" lang="en-US" sz="2400" spc="-1" strike="noStrike">
                <a:solidFill>
                  <a:srgbClr val="35385a"/>
                </a:solidFill>
                <a:latin typeface="Lucida Sans Unicod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33"/>
          <p:cNvSpPr/>
          <p:nvPr/>
        </p:nvSpPr>
        <p:spPr>
          <a:xfrm>
            <a:off x="1201320" y="3357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385a"/>
                </a:solidFill>
                <a:latin typeface="Lucida Sans Unicode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37"/>
          <p:cNvSpPr/>
          <p:nvPr/>
        </p:nvSpPr>
        <p:spPr>
          <a:xfrm>
            <a:off x="1201320" y="2997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385a"/>
                </a:solidFill>
                <a:latin typeface="Lucida Sans Unicod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41"/>
          <p:cNvSpPr/>
          <p:nvPr/>
        </p:nvSpPr>
        <p:spPr>
          <a:xfrm>
            <a:off x="1201320" y="2637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85a"/>
                </a:solidFill>
                <a:latin typeface="Lucida Sans Unicod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Рисунок 4" descr="korni.jpg"/>
          <p:cNvPicPr/>
          <p:nvPr/>
        </p:nvPicPr>
        <p:blipFill>
          <a:blip r:embed="rId2"/>
          <a:srcRect l="0" t="3773" r="0" b="27325"/>
          <a:stretch/>
        </p:blipFill>
        <p:spPr>
          <a:xfrm>
            <a:off x="2340000" y="1341360"/>
            <a:ext cx="6029280" cy="5040360"/>
          </a:xfrm>
          <a:prstGeom prst="rect">
            <a:avLst/>
          </a:prstGeom>
          <a:ln w="0">
            <a:noFill/>
          </a:ln>
        </p:spPr>
      </p:pic>
      <p:sp>
        <p:nvSpPr>
          <p:cNvPr id="445" name="Прямая соединительная линия 79"/>
          <p:cNvSpPr/>
          <p:nvPr/>
        </p:nvSpPr>
        <p:spPr>
          <a:xfrm>
            <a:off x="1690560" y="2205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ая соединительная линия 80"/>
          <p:cNvSpPr/>
          <p:nvPr/>
        </p:nvSpPr>
        <p:spPr>
          <a:xfrm>
            <a:off x="1690560" y="1844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ая соединительная линия 81"/>
          <p:cNvSpPr/>
          <p:nvPr/>
        </p:nvSpPr>
        <p:spPr>
          <a:xfrm>
            <a:off x="1690560" y="2563920"/>
            <a:ext cx="360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82"/>
          <p:cNvSpPr/>
          <p:nvPr/>
        </p:nvSpPr>
        <p:spPr>
          <a:xfrm>
            <a:off x="1200600" y="2276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85a"/>
                </a:solidFill>
                <a:latin typeface="Lucida Sans Unicode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83"/>
          <p:cNvSpPr/>
          <p:nvPr/>
        </p:nvSpPr>
        <p:spPr>
          <a:xfrm>
            <a:off x="1200600" y="1916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85a"/>
                </a:solidFill>
                <a:latin typeface="Lucida Sans Unicode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84"/>
          <p:cNvSpPr/>
          <p:nvPr/>
        </p:nvSpPr>
        <p:spPr>
          <a:xfrm>
            <a:off x="1200600" y="1555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85a"/>
                </a:solidFill>
                <a:latin typeface="Lucida Sans Unicode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ая соединительная линия 85"/>
          <p:cNvSpPr/>
          <p:nvPr/>
        </p:nvSpPr>
        <p:spPr>
          <a:xfrm>
            <a:off x="1690560" y="14558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86"/>
          <p:cNvSpPr/>
          <p:nvPr/>
        </p:nvSpPr>
        <p:spPr>
          <a:xfrm>
            <a:off x="1211400" y="11667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85a"/>
                </a:solidFill>
                <a:latin typeface="Lucida Sans Unicode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0:02:21Z</dcterms:created>
  <dc:creator>Admin</dc:creator>
  <dc:description/>
  <dc:language>en-US</dc:language>
  <cp:lastModifiedBy>Admin</cp:lastModifiedBy>
  <dcterms:modified xsi:type="dcterms:W3CDTF">2011-02-08T11:48:42Z</dcterms:modified>
  <cp:revision>15</cp:revision>
  <dc:subject/>
  <dc:title>Слайд 1</dc:title>
</cp:coreProperties>
</file>